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E6DC-E5FE-4FA3-A370-2C3260A03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F9FF-1413-4FFD-864B-10010137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6994-2A90-4FB2-81D4-85876E0DD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3A99-D351-4BFD-ACEC-4C84DF1F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0C53-EA57-4CE5-A39D-A05DE13B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BEBF-5A6A-49CA-B3B3-8C16C93C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48D0-4F33-40F3-B12E-93CA4607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5915-32C7-4661-A9BA-038D7F13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C6DA-62F4-4989-98E8-10375AED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D56B-EFDF-4D94-88FA-2887F71D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AD7B-69FE-4825-A7A2-FCBFB603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DE41-A2FD-4F0E-9FC6-BD7B1A30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00C6-9A7B-4733-A9C5-1FF4258752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1.bp.blogspot.com/_JZdzW7Z4eIA/SdsqCJmnVjI/AAAAAAAAAH8/WWdcWQfbrE8/s1600-h/Rorschach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http://img.66.ru/image/5bb1df51bfa593d8811bfebaf61875f0/47dd6289/0/44/34/443475_normal.jpg"/>
          <p:cNvPicPr/>
          <p:nvPr/>
        </p:nvPicPr>
        <p:blipFill>
          <a:blip r:embed="rId1"/>
          <a:stretch/>
        </p:blipFill>
        <p:spPr>
          <a:xfrm>
            <a:off x="-457200" y="-136440"/>
            <a:ext cx="1035360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4.bp.blogspot.com/_ybECwyo1hn8/SciLZB89nXI/AAAAAAAAAWQ/7AzFaW7N-vo/s320/bourreau.jpg"/>
          <p:cNvPicPr/>
          <p:nvPr/>
        </p:nvPicPr>
        <p:blipFill>
          <a:blip r:embed="rId1"/>
          <a:stretch/>
        </p:blipFill>
        <p:spPr>
          <a:xfrm>
            <a:off x="1600200" y="0"/>
            <a:ext cx="4952880" cy="74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1.bp.blogspot.com/_JZdzW7Z4eIA/SdsqCJmnVjI/AAAAAAAAAH8/WWdcWQfbrE8/s320/Rorschac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914400" y="0"/>
            <a:ext cx="10450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marriagerepaircenter.com/marriagerepaircenter011001.jpg"/>
          <p:cNvPicPr/>
          <p:nvPr/>
        </p:nvPicPr>
        <p:blipFill>
          <a:blip r:embed="rId1"/>
          <a:stretch/>
        </p:blipFill>
        <p:spPr>
          <a:xfrm>
            <a:off x="-549360" y="228600"/>
            <a:ext cx="96933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quondam.com/08/0749i02.jpg"/>
          <p:cNvPicPr/>
          <p:nvPr/>
        </p:nvPicPr>
        <p:blipFill>
          <a:blip r:embed="rId1"/>
          <a:stretch/>
        </p:blipFill>
        <p:spPr>
          <a:xfrm>
            <a:off x="762120" y="-152280"/>
            <a:ext cx="783108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honolulu.hawaii.edu/distance/sci122/Programs/p3/Rorschach.gif"/>
          <p:cNvPicPr/>
          <p:nvPr/>
        </p:nvPicPr>
        <p:blipFill>
          <a:blip r:embed="rId1"/>
          <a:stretch/>
        </p:blipFill>
        <p:spPr>
          <a:xfrm>
            <a:off x="1295280" y="0"/>
            <a:ext cx="601992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fred5080145.files.wordpress.com/2008/09/mo469fd.gif"/>
          <p:cNvPicPr/>
          <p:nvPr/>
        </p:nvPicPr>
        <p:blipFill>
          <a:blip r:embed="rId1"/>
          <a:stretch/>
        </p:blipFill>
        <p:spPr>
          <a:xfrm>
            <a:off x="1752480" y="-154080"/>
            <a:ext cx="5346720" cy="70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utpsyc.org/TATintro/TATlab.jpg"/>
          <p:cNvPicPr/>
          <p:nvPr/>
        </p:nvPicPr>
        <p:blipFill>
          <a:blip r:embed="rId1"/>
          <a:stretch/>
        </p:blipFill>
        <p:spPr>
          <a:xfrm>
            <a:off x="0" y="-268200"/>
            <a:ext cx="9144000" cy="71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www.sfu.ca/~achanne/psychtests/TAT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4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www.sfu.ca/~achanne/psychtests/TAT08GF.jpg"/>
          <p:cNvPicPr/>
          <p:nvPr/>
        </p:nvPicPr>
        <p:blipFill>
          <a:blip r:embed="rId1"/>
          <a:stretch/>
        </p:blipFill>
        <p:spPr>
          <a:xfrm>
            <a:off x="1447920" y="-85680"/>
            <a:ext cx="563868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5:31:11Z</dcterms:created>
  <dc:creator>BHS</dc:creator>
  <dc:description/>
  <dc:language>en-US</dc:language>
  <cp:lastModifiedBy>BHS</cp:lastModifiedBy>
  <dcterms:modified xsi:type="dcterms:W3CDTF">2010-01-22T15:50:18Z</dcterms:modified>
  <cp:revision>2</cp:revision>
  <dc:subject/>
  <dc:title>Slide 1</dc:title>
</cp:coreProperties>
</file>